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22A0-29AB-46A6-BA0B-F08ED829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A94-3A18-400E-8EAE-D0070F85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1E96-6CF9-4EB8-A4D2-EC7A1780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97F-2C4A-4B0A-98CC-3F2478D7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C5D-7F0B-4E04-8E68-388412AA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D89-8DC4-40C7-9BFF-8B40D803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4DD-ADBE-442C-9654-6F8E740A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975-5CB3-4251-9076-7E8A5704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5A3-67EA-4AA2-BEF1-E7F0B029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DE5-59BA-4C8A-8634-05CAB552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26D2-2D44-4850-BF3E-CD338EBF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6B6-87CF-4A7C-BB61-97CE6DCE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30F5-088E-41EB-910C-9860128D7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81680" y="0"/>
            <a:ext cx="236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E: 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ASS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52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GM at Home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 and build a simple (at least 3-steps) RGM machine using everyday objects around your house.  In the space below, draw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abel a diagram of your creation and write a description of how your machine works and what energy transformations/transfers occur.  Instead of drawing, you may take a photo of your machine and include it or you may record a video of your machine in action and e-mail it to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1447920"/>
            <a:ext cx="8991360" cy="3581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781680" y="0"/>
            <a:ext cx="236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E: 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ASS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2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GM at Home Assignment Grading Ru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621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 will be using this rubric to score this assignment.  Be sure to include the required elements so you earn the maximum point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219320"/>
          <a:ext cx="8763120" cy="5551200"/>
        </p:xfrm>
        <a:graphic>
          <a:graphicData uri="http://schemas.openxmlformats.org/drawingml/2006/table">
            <a:tbl>
              <a:tblPr/>
              <a:tblGrid>
                <a:gridCol w="3381480"/>
                <a:gridCol w="1914480"/>
                <a:gridCol w="1793880"/>
                <a:gridCol w="1673280"/>
              </a:tblGrid>
              <a:tr h="6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 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e there 3 distinct step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st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ste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ste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e contraption seem like it should work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 there a labeled pictur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but   no label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 there a written descriptio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written description includ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 lacking detail and qual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rough and well written description includ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e description include the correct energy transformation and transfer description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were correct, but some were incorre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1:21:37Z</dcterms:created>
  <dc:creator>krmihal</dc:creator>
  <dc:description/>
  <dc:language>en-US</dc:language>
  <cp:lastModifiedBy>krmihal</cp:lastModifiedBy>
  <dcterms:modified xsi:type="dcterms:W3CDTF">2012-05-01T11:21:58Z</dcterms:modified>
  <cp:revision>1</cp:revision>
  <dc:subject/>
  <dc:title>Slide 1</dc:title>
</cp:coreProperties>
</file>